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08D5B-6AA9-4E13-82DA-47CD5F881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5F356-1CC0-44B5-8344-4B002564B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0EEFA-5527-41FA-A7F9-1CD868007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6134B-34A5-47F6-83A2-923F87F87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B5347-1202-4FEC-989B-53F80AA23B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C8C84-1C31-4C8D-8610-4850265AA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5FB79-CDAE-484F-809C-2138618A4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65153-AEA9-4776-B6E1-77B0E73F6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BD5C2-6EBB-43A9-8D92-3182D81D6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9E122-F5DF-45BD-A5CF-7078A0132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53F55-15F9-4C08-AE6E-F5C3C074A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3B23F-1C3D-4467-8B61-A0EB9D717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55005-4663-4EE4-9984-06D6FDAE6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A6EC0-91E5-40B9-85C4-FF4222DE3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E1CBA-D5BD-42E7-9B4B-D1F3920CE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3F7EB0-93AA-4BAC-BC7E-816A0EC60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FECF5-C753-47C8-A145-E1365005FE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1AF1D-F13E-4F5B-87F3-E9DA3A539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029A9-E3BB-4E48-ADE0-101BCBC6F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58C64-E206-4D74-AB54-87CCD2538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4F99C-F3C6-4D13-B2C4-AA8D2A52D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EE4E9-38FA-42D8-8483-330A98459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22FFD-85B2-49E7-8566-8ECC05198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2A38C-BCB8-4901-8B5C-F9620F5F5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D336-4AD8-48A6-AAC5-22F04063BEE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58EC-1BC2-42F8-BBFD-1479C05A23D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4</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upplies, Equipment, and Purchasing</a:t>
            </a:r>
            <a:endParaRPr b="1" lang="en-US" sz="32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ry school district is faced with the problem of procuring, storing, and distributing supplies and equipment in the most efficient and economical manner possible.  If school budgets are reduces, the need foe effective management of fiscal and material resources increase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dministrator is responsible for assuring that maximum benefits are provided by the expenditure of each dollar in every aspect of the school program.</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isk Management and Insurance</a:t>
            </a:r>
            <a:endParaRPr b="1" lang="en-US" sz="32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school districts are finding its advantages to assign a staff member to a risk management position – a concept that is gaining greater acceptance in the public sector.  As a preventive measure, boards of education and principals of local schools should survey the facilities in a systematic basis to be assured that hazardous areas for students and staff do not exi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isk Management and Insurance</a:t>
            </a:r>
            <a:endParaRPr b="1" lang="en-US" sz="32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the risk for operating schools increase, the need for evaluating and improving the insurance program increases. The board should be certain that its program is providing coverage at reasonable cost for risks that often exist and that it does not provide high-cost insurance for risks that seldom exis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gram should be under constant evaluation by knowledgeable advisors using sound principl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f-Insurance</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es are making possible for agencies under their jurisdiction, including school, to become a member of an agency pool.  In an inflationary period, school boards may find that a district that was properly insured is now underinsured. Neglecting to carry adequate insurance is a common oversight of many school districts.  In very large districts, self0insurabce can sometimes be substituted for a formal insurance program.</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nsportation and Food Services</a:t>
            </a:r>
            <a:endParaRPr b="1" lang="en-US" sz="32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ually assigned to the business office to administ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fective management is necessary to work with these relatively large budgets and to comply with federal and state restrictions and requirement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uperintendent and the board of education are ultimately held accountable for the soundness of these program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7:35:51Z</dcterms:created>
  <dc:creator>Cynthia Altemueller</dc:creator>
  <dc:description/>
  <dc:language>en-US</dc:language>
  <cp:lastModifiedBy>AEURY</cp:lastModifiedBy>
  <dcterms:modified xsi:type="dcterms:W3CDTF">2006-01-27T22:14:16Z</dcterms:modified>
  <cp:revision>3</cp:revision>
  <dc:subject/>
  <dc:title>Finance in Education</dc:title>
</cp:coreProperties>
</file>